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AEF2-45D9-4963-9694-BFD36DC3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91976-07E0-4FCA-BD8C-0A298B9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3780-890B-4752-92FC-3FD65F01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56F0A-B612-48C7-994E-608767B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F6991-EA3D-4115-B938-1F72FAB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27F80-51E5-4700-A28D-DDE3FAEC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5FC7-4F04-4F07-BB66-B04A8C8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CF5F-CA2A-471A-AC38-EDC536D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22C85-BD28-4DBC-A137-704000F4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AEAA-CE93-430B-9972-93046B1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924B-3E7E-48B2-8DB3-DFA5167F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41B1F-6E03-4E9E-A0C2-C4A1C289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D163C-1075-43C4-9821-5663A653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0AA42-049C-4640-9EAD-CF543529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477F4-56B6-4AFC-893D-30937F2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67553-0FB3-46D4-B518-D14000E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31DF4-0F87-41AC-BA8F-40D6107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581F9-A41C-4E2F-BFC0-AECF158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75A15-03D6-4166-AC84-54133B4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80BAC-B194-4368-ABEB-EF05B3A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F72F6-F695-4AD1-95EB-1E4798D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53567-B434-42C1-9EE6-CFE1439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F31DF-91B8-4F71-BF2F-83953C80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79599-2F4B-4889-B01C-F871FBBB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FBB35-0C70-4015-8BDA-697C22B7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78D35-9BF4-4A7F-BA40-D83BC61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8FA1A-4E7F-42AA-B112-E7DF9482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28C50-EDC1-418C-BFDA-0A222FA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E1324-9677-4928-AF1A-46A52B6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4FB4D-CC37-4543-87DB-1835D1B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008E6-D71B-4BB9-AF92-52BFB42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5202A-37A8-4B6F-81A1-CF8BC12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4D472-BD7C-443B-8ABF-AB8C7CA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8E3F4-8B9F-4D9D-9A7F-A77C141B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D3FF3-D311-4BCF-9FB7-D8C38150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D6133-ADAB-4DC2-99CE-668B3A99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3F5E6-5FF7-437B-BFCA-1F0CACEF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C2247-88B5-4970-95EB-75E5E35C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7D356-9AEA-422A-8388-F6C6091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B2472-51F8-4293-B72C-42B6AAED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90110-34F8-4942-A273-0A151A73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DA4FA-FD96-4EA2-BCD0-BA9FE51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7BE95-1AFA-446E-ABA1-CB5F65E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73F1E-185A-4E7C-BC05-6634121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A6BFF-C8A7-4C0B-8C4F-C85A1CD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3827B-0811-4A00-8848-A67A3D33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2555C-5B3A-4FB5-985B-341DA615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DC070-2AD4-4113-A133-C11FB22D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33F-B1DC-445D-8E27-FB951E0B5BA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E97A-8ED5-4BFC-AE83-2643568A6B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6A4-BB2C-4986-BE85-B15C0DD124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46E-0B95-42C1-B6AF-F60698894B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3C5-412D-4424-9694-97E7096E08D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Sistemi Distribuiti: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MI Avan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63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35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He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05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992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Message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437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553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476360" y="1438200"/>
            <a:ext cx="7056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7128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514520" y="1341360"/>
            <a:ext cx="6729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12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ustom RMI 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481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67000" y="1268280"/>
            <a:ext cx="72086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5610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OutputStr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62240" y="1413000"/>
            <a:ext cx="7170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91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416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365120" y="1413000"/>
            <a:ext cx="7310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2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55920" y="1484280"/>
            <a:ext cx="683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37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905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620720" y="1498680"/>
            <a:ext cx="6767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istributed Garbage Colle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200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6:09Z</dcterms:modified>
  <cp:revision>67</cp:revision>
  <dc:subject/>
  <dc:title>Diapositiva 1</dc:title>
</cp:coreProperties>
</file>